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468-7B8F-42A1-AB03-1BD9D0B3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662-190B-44E8-BA10-433BB958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188-769D-492A-B593-F7B882FF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B03-4B48-4D6A-84D6-2EA20DD6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3CCC-AA70-4C9C-B532-7FCC1A40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AE8-52C6-4159-96F2-6A1ECF40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F68A-74B1-49F4-8337-5FAE50C6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796-7650-47CC-89B2-0AF1CFD7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8426-9ACF-4C6A-8E69-93A7C500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47B3-6DC3-47AF-8F83-BC4E678F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77D-C456-4549-8594-53CAC6C2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060-E4DE-46DA-B14B-72CB44BA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a3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8DE0-CA3B-4764-8FB2-EBFE2D24B1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a3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Érzékelés, észlelé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a3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terális gátlás Hermann rá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24160" y="1758960"/>
            <a:ext cx="4494240" cy="3338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5229000"/>
            <a:ext cx="8229600" cy="11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ámolja meg, hány fekete pontot lát a ké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a3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ring vonala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522900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ét piros vonal görbe vagy egyen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5000" y="2009880"/>
            <a:ext cx="4732200" cy="2838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a3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gura és háttér Rubin serle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ét emberi arc vagy egy serle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979640" y="2206800"/>
            <a:ext cx="5184360" cy="2447280"/>
            <a:chOff x="1979640" y="2206800"/>
            <a:chExt cx="5184360" cy="244728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979640" y="2206800"/>
              <a:ext cx="2473560" cy="244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4690080" y="2206800"/>
              <a:ext cx="2473920" cy="244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22:09:39Z</dcterms:created>
  <dc:creator/>
  <dc:description/>
  <dc:language>en-US</dc:language>
  <cp:lastModifiedBy>OKÉV</cp:lastModifiedBy>
  <dcterms:modified xsi:type="dcterms:W3CDTF">2008-05-28T12:35:51Z</dcterms:modified>
  <cp:revision>11</cp:revision>
  <dc:subject/>
  <dc:title>Érzékelés, észlelés</dc:title>
</cp:coreProperties>
</file>